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333-2EBE-4D94-BDAA-829E86B6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FCE-2F44-4519-B08A-AAE1A551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35A-7708-485E-8E43-ED5F6C9C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6F1-32BD-4053-8423-336F3730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FDFB-CA38-41AA-9BC8-AC55CE14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AF74-6A05-46D9-9CD3-802A07EB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EAB8-4103-4B23-ADA9-A577BC27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3E36-E72B-48B3-A955-40D77AE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A728-3AE9-402A-88B9-0BEF7998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F1AF-7070-4113-942E-D4551161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ACD0-70C8-4ADD-80FC-F44B80F1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BF0-5EEE-4EFD-9AB1-056868E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FFB3-9C86-49C7-A3B9-032BE20D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309E-5ADD-46AD-87A6-735CCECB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ABDD-F017-4283-97C9-0DE87A1A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1918-C8E6-4443-9C72-030E2CA0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EBB5-151C-4691-BAA6-F569809C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219-B026-405F-B68D-F64E6A23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777-43CF-4126-89FD-C89737B8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812-C199-4A61-9AF2-8478DE8A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E41-A6FD-478F-9E1B-AEE28223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F93-CE7E-4F73-947E-25B40C9A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B4B-8158-4D26-BF86-0F481ACF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09A-FB7E-476B-BC25-73300BA0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F135-48EE-45C4-AC54-FB4C45EC4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3FE2-07B1-4388-99C1-E50941202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23640" y="115560"/>
            <a:ext cx="856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лександр Степанович Грин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(23.8.1880 - 8.7.1932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156360" y="549360"/>
            <a:ext cx="2519280" cy="2303280"/>
            <a:chOff x="6156360" y="549360"/>
            <a:chExt cx="2519280" cy="230328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6156360" y="549360"/>
              <a:ext cx="251928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6156360" y="549360"/>
              <a:ext cx="2519280" cy="23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ffffb7"/>
                </a:solidFill>
                <a:latin typeface="Arial Black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5472000" cy="590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0360" y="2992320"/>
            <a:ext cx="27957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129800" cy="3743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нд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кадил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юриленский теат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ай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46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404640"/>
            <a:ext cx="80074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слуг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батра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рабоч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бродяг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сиро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матро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71640" y="907920"/>
          <a:ext cx="2592360" cy="17463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 сойдет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 ума 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тильтон 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156360" y="907920"/>
          <a:ext cx="2519280" cy="1746360"/>
        </p:xfrm>
        <a:graphic>
          <a:graphicData uri="http://schemas.openxmlformats.org/drawingml/2006/table">
            <a:tbl>
              <a:tblPr/>
              <a:tblGrid>
                <a:gridCol w="2519280"/>
              </a:tblGrid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сопьется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скуки 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тильтон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564000" y="2637000"/>
          <a:ext cx="2304720" cy="2015640"/>
        </p:xfrm>
        <a:graphic>
          <a:graphicData uri="http://schemas.openxmlformats.org/drawingml/2006/table">
            <a:tbl>
              <a:tblPr/>
              <a:tblGrid>
                <a:gridCol w="2304720"/>
              </a:tblGrid>
              <a:tr h="20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удьб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жона          Ив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84720" y="5084640"/>
          <a:ext cx="2448000" cy="136872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р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5084640"/>
          <a:ext cx="1871640" cy="13716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удет искать себ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900000" y="5084640"/>
          <a:ext cx="2664000" cy="136872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боле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795640" y="1904760"/>
            <a:ext cx="304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леустр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л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удолюб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763280" y="955800"/>
            <a:ext cx="20163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897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508720" y="333000"/>
            <a:ext cx="36352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еустре-мл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удолюб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ие прощ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897440" cy="4103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188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043520" cy="59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Человек не игрушка судьбы ,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а творец ее , если  у него есть вера  в свои возможности</a:t>
            </a:r>
            <a:br>
              <a:rPr sz="3600"/>
            </a:br>
            <a:br>
              <a:rPr sz="28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51280" y="1915920"/>
            <a:ext cx="338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404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РАМИДА - отзы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 ве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зненная ситуа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ондон, 20 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треча, сделка, встреча, прощение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здуш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тильтон. Трудолюбивый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рота И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начале- грусть, в середине- тревога, в конце- рад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ра в свои возможности позволяет преодолевать любые препят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 прекрасен человек, имеющий высокую цель: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читься и учитьс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8:55:05Z</dcterms:created>
  <dc:creator>1</dc:creator>
  <dc:description/>
  <dc:language>en-US</dc:language>
  <cp:lastModifiedBy>1</cp:lastModifiedBy>
  <dcterms:modified xsi:type="dcterms:W3CDTF">2012-05-10T19:36:39Z</dcterms:modified>
  <cp:revision>6</cp:revision>
  <dc:subject/>
  <dc:title>Слайд 1</dc:title>
</cp:coreProperties>
</file>